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2464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65200" y="509400"/>
            <a:ext cx="33973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0054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2464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38C3-06F8-4125-B077-6F33A78027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73480" y="5079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6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2C6-46F3-482D-930A-02243561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258-B7B3-4D2B-AB95-6C6DED1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68A-BC76-4705-A134-34363516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135-05C6-4ABC-9409-E86F24F8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5281-86AB-44F1-B087-850F6E0C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B928-89E0-4ADB-ABE3-D6DB483D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3917-6285-40BA-B15D-75C3AF97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B8E3-6BCB-4518-85BB-537F190F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326C-9900-4AAE-AEA3-50237E12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FD89-A1CB-4D49-B621-E11620D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FB50-3C75-4A34-A9CC-C888FD6D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8C2-66CB-4AF1-9C98-3A577B0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17E5-C5BE-45AD-A17F-30D1B84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1F7F-D52B-4788-AC83-E4179BA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505C-DCBD-420F-963F-958AEA48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0B0E-711B-4E4E-A267-8ADDA85E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DA3-BAA5-4314-9387-095A4819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C1D-C016-4508-B08A-0A549B46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C3C-B4EB-475C-BD6C-9042DAD9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DB7-F2DA-43D3-AF31-51FCBF4C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A9C-982E-4A5F-AE1C-D09DB43C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DA5-7838-4AE3-A130-3110D273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BB3-7938-4101-A456-3B969116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64F-6D46-4F48-80F9-C7F57579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0054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7628-9A85-47C6-A0AA-E49AB31C17F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0054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DB00-64AE-4C73-B31C-24F42EB892A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468360" y="4917960"/>
            <a:ext cx="8353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42960" y="357120"/>
            <a:ext cx="792972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57120" y="1143000"/>
            <a:ext cx="8497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eorgia"/>
              </a:rPr>
              <a:t>Проект бюджета МО «Город Можга» на 2015 год и на плановый период 2016 и 2017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3643200" y="4214880"/>
            <a:ext cx="5186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ение финансов 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 «Город Можг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Основные параметры бюджета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О «Город Можга» на 2015 год</a:t>
            </a:r>
            <a:endParaRPr b="0" lang="en-US" sz="32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429680" y="15001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7120" y="1928880"/>
          <a:ext cx="8247240" cy="4164120"/>
        </p:xfrm>
        <a:graphic>
          <a:graphicData uri="http://schemas.openxmlformats.org/drawingml/2006/table">
            <a:tbl>
              <a:tblPr/>
              <a:tblGrid>
                <a:gridCol w="3278160"/>
                <a:gridCol w="1584360"/>
                <a:gridCol w="1656000"/>
                <a:gridCol w="1728720"/>
              </a:tblGrid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гноз 201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гноз  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гноз  201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489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523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168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101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3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350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66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385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299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523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168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44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ФИЦИТ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</a:tbl>
          </a:graphicData>
        </a:graphic>
      </p:graphicFrame>
      <p:sp>
        <p:nvSpPr>
          <p:cNvPr id="123" name="WordArt 2"/>
          <p:cNvSpPr txBox="1"/>
          <p:nvPr/>
        </p:nvSpPr>
        <p:spPr>
          <a:xfrm>
            <a:off x="3780000" y="0"/>
            <a:ext cx="5219640" cy="189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Управление финансов Администрации МО «Город Можга»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24" name="Rectangle 95"/>
          <p:cNvSpPr/>
          <p:nvPr/>
        </p:nvSpPr>
        <p:spPr>
          <a:xfrm>
            <a:off x="0" y="65880"/>
            <a:ext cx="104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91600" cy="8096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гноз безвозмездных поступлений муниципального образования «Город Можга» на 2015 годы</a:t>
            </a:r>
            <a:endParaRPr b="0" lang="en-US" sz="2000" spc="-1" strike="noStrike">
              <a:solidFill>
                <a:srgbClr val="d00054"/>
              </a:solidFill>
              <a:latin typeface="Tahoma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7327800" y="9954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303200"/>
          <a:ext cx="8351640" cy="5154840"/>
        </p:xfrm>
        <a:graphic>
          <a:graphicData uri="http://schemas.openxmlformats.org/drawingml/2006/table">
            <a:tbl>
              <a:tblPr/>
              <a:tblGrid>
                <a:gridCol w="4464000"/>
                <a:gridCol w="1295280"/>
                <a:gridCol w="1368360"/>
                <a:gridCol w="1224000"/>
              </a:tblGrid>
              <a:tr h="8226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юджет муниципального образ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Город Можг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звозмездные поступления, всего 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350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66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385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58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таци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106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тация на выравнивание бюджетной обеспеченности из Фонда финансовой поддержк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ниципальных районов (городских округ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тации на выравнивание бюджетной обеспеченности муниципальных районов (городских округов) из Фонда финансовой поддержк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5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в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55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87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06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95"/>
          <p:cNvSpPr/>
          <p:nvPr/>
        </p:nvSpPr>
        <p:spPr>
          <a:xfrm>
            <a:off x="0" y="65880"/>
            <a:ext cx="104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3780000" y="0"/>
            <a:ext cx="5219640" cy="189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Управление финансов Администрации МО «Город Можга»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509760" y="836640"/>
          <a:ext cx="8238960" cy="5772240"/>
        </p:xfrm>
        <a:graphic>
          <a:graphicData uri="http://schemas.openxmlformats.org/drawingml/2006/table">
            <a:tbl>
              <a:tblPr/>
              <a:tblGrid>
                <a:gridCol w="4998960"/>
                <a:gridCol w="1079280"/>
                <a:gridCol w="1081080"/>
                <a:gridCol w="107964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СЕГО РАСХОДОВ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,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4299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523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16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77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4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3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0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9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сходы социальной напра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918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892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773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оля социально-значимых расходов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17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37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8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83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99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63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91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6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ства массов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5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</a:tbl>
          </a:graphicData>
        </a:graphic>
      </p:graphicFrame>
      <p:pic>
        <p:nvPicPr>
          <p:cNvPr id="131" name="TextBox 4" descr=""/>
          <p:cNvPicPr/>
          <p:nvPr/>
        </p:nvPicPr>
        <p:blipFill>
          <a:blip r:embed="rId1"/>
          <a:stretch/>
        </p:blipFill>
        <p:spPr>
          <a:xfrm>
            <a:off x="1292400" y="347760"/>
            <a:ext cx="6499080" cy="463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5"/>
          <p:cNvSpPr/>
          <p:nvPr/>
        </p:nvSpPr>
        <p:spPr>
          <a:xfrm>
            <a:off x="0" y="65880"/>
            <a:ext cx="104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2"/>
          <p:cNvSpPr txBox="1"/>
          <p:nvPr/>
        </p:nvSpPr>
        <p:spPr>
          <a:xfrm>
            <a:off x="3780000" y="0"/>
            <a:ext cx="5219640" cy="189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Управление финансов Администрации МО «Город Можга»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28760" y="1208160"/>
          <a:ext cx="8246880" cy="4228920"/>
        </p:xfrm>
        <a:graphic>
          <a:graphicData uri="http://schemas.openxmlformats.org/drawingml/2006/table">
            <a:tbl>
              <a:tblPr/>
              <a:tblGrid>
                <a:gridCol w="5035320"/>
                <a:gridCol w="1051200"/>
                <a:gridCol w="1081080"/>
                <a:gridCol w="1079280"/>
              </a:tblGrid>
              <a:tr h="181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5 год прогн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6 год прогн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7 год прогн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ОЦИАЛЬНАЯ ПОЛИТИКА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– всего расходов, 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163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91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36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сионное 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ое обеспечение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0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8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1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храна семьи и дет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7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4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</a:tbl>
          </a:graphicData>
        </a:graphic>
      </p:graphicFrame>
      <p:pic>
        <p:nvPicPr>
          <p:cNvPr id="135" name="TextBox 4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431200" cy="8301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2"/>
          <p:cNvSpPr txBox="1"/>
          <p:nvPr/>
        </p:nvSpPr>
        <p:spPr>
          <a:xfrm>
            <a:off x="3780000" y="0"/>
            <a:ext cx="5219640" cy="189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Управление финансов Администрации МО «Город Можга»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37" name="Rectangle 95"/>
          <p:cNvSpPr/>
          <p:nvPr/>
        </p:nvSpPr>
        <p:spPr>
          <a:xfrm>
            <a:off x="0" y="65880"/>
            <a:ext cx="104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28760" y="1162080"/>
          <a:ext cx="8246880" cy="4964040"/>
        </p:xfrm>
        <a:graphic>
          <a:graphicData uri="http://schemas.openxmlformats.org/drawingml/2006/table">
            <a:tbl>
              <a:tblPr/>
              <a:tblGrid>
                <a:gridCol w="4719600"/>
                <a:gridCol w="1150920"/>
                <a:gridCol w="1152360"/>
                <a:gridCol w="1224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5 год 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6 год 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7 год 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9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БРАЗОВАНИЕ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– всего расходов, 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6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517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23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62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шко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23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98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62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ще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65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0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3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109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лодежная политика и оздоровление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4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5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62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угие вопросы в области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4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4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</a:tbl>
          </a:graphicData>
        </a:graphic>
      </p:graphicFrame>
      <p:pic>
        <p:nvPicPr>
          <p:cNvPr id="139" name="TextBox 4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431200" cy="8301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2"/>
          <p:cNvSpPr txBox="1"/>
          <p:nvPr/>
        </p:nvSpPr>
        <p:spPr>
          <a:xfrm>
            <a:off x="3780000" y="0"/>
            <a:ext cx="5219640" cy="189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Управление финансов Администрации МО «Город Можга»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41" name="Rectangle 95"/>
          <p:cNvSpPr/>
          <p:nvPr/>
        </p:nvSpPr>
        <p:spPr>
          <a:xfrm>
            <a:off x="0" y="65880"/>
            <a:ext cx="104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28760" y="1162080"/>
          <a:ext cx="8246880" cy="4883040"/>
        </p:xfrm>
        <a:graphic>
          <a:graphicData uri="http://schemas.openxmlformats.org/drawingml/2006/table">
            <a:tbl>
              <a:tblPr/>
              <a:tblGrid>
                <a:gridCol w="4646520"/>
                <a:gridCol w="1224000"/>
                <a:gridCol w="1152360"/>
                <a:gridCol w="1224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5 год 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6 год 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7 год 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08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УЛЬТУР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– всего расходов, 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138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83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9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3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1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9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f"/>
                    </a:solidFill>
                  </a:tcPr>
                </a:tc>
              </a:tr>
              <a:tr h="13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угие вопросы в области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ff"/>
                    </a:solidFill>
                  </a:tcPr>
                </a:tc>
              </a:tr>
            </a:tbl>
          </a:graphicData>
        </a:graphic>
      </p:graphicFrame>
      <p:pic>
        <p:nvPicPr>
          <p:cNvPr id="143" name="TextBox 4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431200" cy="83016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"/>
          <p:cNvSpPr txBox="1"/>
          <p:nvPr/>
        </p:nvSpPr>
        <p:spPr>
          <a:xfrm>
            <a:off x="3780000" y="0"/>
            <a:ext cx="5219640" cy="189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Управление финансов Администрации МО «Город Можга»</a:t>
            </a:r>
            <a:endParaRPr b="1" i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45" name="Rectangle 95"/>
          <p:cNvSpPr/>
          <p:nvPr/>
        </p:nvSpPr>
        <p:spPr>
          <a:xfrm>
            <a:off x="0" y="65880"/>
            <a:ext cx="104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18000" tIns="10800" bIns="10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зизуллина Альбина Мударисовна</dc:creator>
  <dc:description/>
  <dc:language>en-US</dc:language>
  <cp:lastModifiedBy>Veronika</cp:lastModifiedBy>
  <cp:lastPrinted>2014-11-11T06:58:03Z</cp:lastPrinted>
  <dcterms:modified xsi:type="dcterms:W3CDTF">2014-11-12T11:21:33Z</dcterms:modified>
  <cp:revision>302</cp:revision>
  <dc:subject/>
  <dc:title>Постоянное представительство  Президента Удмуртской Республики при Президенте Российской Федерации   Анализ расходов за 2009-2011 годы, тыс. руб.</dc:title>
</cp:coreProperties>
</file>